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F19C-DF7B-40D7-B37D-CF87A21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895C-039D-485F-A093-D4AB434F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E6D4-DD4B-4A82-AA4D-6E7F8C55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D854-06FA-4EB2-949D-DF0AF534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5888-6BA0-4591-BA4E-32393D1A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700F-3AA4-4C5A-B227-B70903AA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C143-1E90-4E8E-8902-9C9C0496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64F5-ABAD-4D04-BFAE-C7475706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4B89-E1EA-49A6-A50A-4703ABB4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A527-84E6-4740-9DEA-36FCF616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266A-2E21-4056-AA32-86C0AE5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3FE6-0166-4E70-BB24-09D4D118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3C38-9480-4E00-A160-BA7E504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662-EC2A-46C6-8636-889156D0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D741-AB33-43C0-BBED-B39625E9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C82D-9989-446C-8686-4B7D6C00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D922-9946-4499-A9B3-40D7D4DA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1221-866E-4759-AFCD-DE1EAD25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A727-16D8-4C6C-BD68-8EE2B56A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82C4-0E6D-443B-85C5-BEF88AA5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3A6D-0199-4701-9171-21F70D62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7D53-BF02-46C0-BE14-F95D41C5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83D8-D0E4-4E92-A448-281B8617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20B8-953C-4367-82F9-A111A1A6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273-59E1-4B86-AFE9-A371A6C40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76CE-C4C7-40B0-A70B-2E4C801EC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f.net/projects/turnke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lmusic.com/" TargetMode="External"/><Relationship Id="rId2" Type="http://schemas.openxmlformats.org/officeDocument/2006/relationships/hyperlink" Target="http://www.biopipe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ci.csusb.edu/dick/cs320/handouts/uml11.md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qlfairy.sf.net/" TargetMode="External"/><Relationship Id="rId2" Type="http://schemas.openxmlformats.org/officeDocument/2006/relationships/hyperlink" Target="http://sqlfairy.sf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urnk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1907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Verdana"/>
              </a:rPr>
              <a:t>for any database sche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5468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llen Day, Sept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47480" y="3581280"/>
            <a:ext cx="534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generate a web front 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known as “gmod-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 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f.net/projects/turn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code generator produces D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 mapping and displa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A Web-based front-end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provi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access to Chado and/or GUS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other GMOD web-based projects (gbrowse, textpresso, et al)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framework to “plug in” more functionality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eferences, history, shopping cart,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(base) schema/model model agnostic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sted with “All Music Guide”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www.allmusic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opipe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www.biopipe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process tracker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60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--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REATE TABLE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86400" y="1660680"/>
            <a:ext cx="2743200" cy="1692000"/>
            <a:chOff x="5486400" y="1660680"/>
            <a:chExt cx="2743200" cy="1692000"/>
          </a:xfrm>
        </p:grpSpPr>
        <p:sp>
          <p:nvSpPr>
            <p:cNvPr id="117" name=""/>
            <p:cNvSpPr/>
            <p:nvPr/>
          </p:nvSpPr>
          <p:spPr>
            <a:xfrm>
              <a:off x="5829840" y="166068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Directed 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2133720"/>
              <a:ext cx="457200" cy="457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289548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852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2895480"/>
              <a:ext cx="457200" cy="4572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20" idx="2"/>
              <a:endCxn id="119" idx="0"/>
            </p:cNvCxnSpPr>
            <p:nvPr/>
          </p:nvCxnSpPr>
          <p:spPr>
            <a:xfrm>
              <a:off x="8000640" y="2603520"/>
              <a:ext cx="1080" cy="28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1"/>
              <a:endCxn id="118" idx="3"/>
            </p:cNvCxnSpPr>
            <p:nvPr/>
          </p:nvCxnSpPr>
          <p:spPr>
            <a:xfrm flipH="1">
              <a:off x="748008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1" idx="3"/>
              <a:endCxn id="118" idx="1"/>
            </p:cNvCxnSpPr>
            <p:nvPr/>
          </p:nvCxnSpPr>
          <p:spPr>
            <a:xfrm>
              <a:off x="671832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6324120" y="2603160"/>
              <a:ext cx="1080" cy="292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62904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647676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 flipH="1">
              <a:off x="5943240" y="228564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5943240" y="243792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6095520" y="3581280"/>
            <a:ext cx="2514960" cy="1524240"/>
            <a:chOff x="6095520" y="3581280"/>
            <a:chExt cx="2514960" cy="1524240"/>
          </a:xfrm>
        </p:grpSpPr>
        <p:grpSp>
          <p:nvGrpSpPr>
            <p:cNvPr id="133" name=""/>
            <p:cNvGrpSpPr/>
            <p:nvPr/>
          </p:nvGrpSpPr>
          <p:grpSpPr>
            <a:xfrm>
              <a:off x="7086600" y="3733920"/>
              <a:ext cx="1523880" cy="1371600"/>
              <a:chOff x="7086600" y="3733920"/>
              <a:chExt cx="1523880" cy="1371600"/>
            </a:xfrm>
          </p:grpSpPr>
          <p:pic>
            <p:nvPicPr>
              <p:cNvPr id="134" name="cookie_cutters" descr=""/>
              <p:cNvPicPr/>
              <p:nvPr/>
            </p:nvPicPr>
            <p:blipFill>
              <a:blip r:embed="rId1">
                <a:lum bright="6000"/>
              </a:blip>
              <a:stretch/>
            </p:blipFill>
            <p:spPr>
              <a:xfrm>
                <a:off x="7086600" y="4089600"/>
                <a:ext cx="152388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7086600" y="3733920"/>
                <a:ext cx="143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Templa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095520" y="3581280"/>
              <a:ext cx="838440" cy="1219320"/>
              <a:chOff x="6095520" y="3581280"/>
              <a:chExt cx="838440" cy="121932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5880" y="3581280"/>
                <a:ext cx="0" cy="121932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095520" y="4191120"/>
                <a:ext cx="838440" cy="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3451320" y="1676520"/>
            <a:ext cx="1425960" cy="1616040"/>
            <a:chOff x="3451320" y="1676520"/>
            <a:chExt cx="1425960" cy="1616040"/>
          </a:xfrm>
        </p:grpSpPr>
        <p:pic>
          <p:nvPicPr>
            <p:cNvPr id="140" name="gears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3511440" y="192096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451320" y="167652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58360" y="4876920"/>
            <a:ext cx="2105640" cy="1602000"/>
            <a:chOff x="5058360" y="4876920"/>
            <a:chExt cx="2105640" cy="1602000"/>
          </a:xfrm>
        </p:grpSpPr>
        <p:pic>
          <p:nvPicPr>
            <p:cNvPr id="143" name="gears" descr="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>
              <a:off x="5410080" y="487692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058360" y="6080040"/>
              <a:ext cx="210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Cod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29000" y="2514600"/>
            <a:ext cx="1676520" cy="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19720" y="4876920"/>
            <a:ext cx="838080" cy="609480"/>
            <a:chOff x="4419720" y="4876920"/>
            <a:chExt cx="838080" cy="609480"/>
          </a:xfrm>
        </p:grpSpPr>
        <p:sp>
          <p:nvSpPr>
            <p:cNvPr id="147" name=""/>
            <p:cNvSpPr/>
            <p:nvPr/>
          </p:nvSpPr>
          <p:spPr>
            <a:xfrm flipH="1">
              <a:off x="4419720" y="487692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19720" y="518148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19720" y="548640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7200" y="4191120"/>
            <a:ext cx="3731760" cy="1981080"/>
            <a:chOff x="457200" y="4191120"/>
            <a:chExt cx="3731760" cy="1981080"/>
          </a:xfrm>
        </p:grpSpPr>
        <p:pic>
          <p:nvPicPr>
            <p:cNvPr id="151" name="sprock" descr=""/>
            <p:cNvPicPr/>
            <p:nvPr/>
          </p:nvPicPr>
          <p:blipFill>
            <a:blip r:embed="rId4"/>
            <a:stretch/>
          </p:blipFill>
          <p:spPr>
            <a:xfrm>
              <a:off x="457200" y="4343400"/>
              <a:ext cx="1322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83360" y="48769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XML/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5280" y="5410080"/>
              <a:ext cx="914400" cy="76212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84800" y="419112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4760" y="4395960"/>
            <a:ext cx="685800" cy="1395360"/>
            <a:chOff x="1904760" y="4395960"/>
            <a:chExt cx="685800" cy="1395360"/>
          </a:xfrm>
        </p:grpSpPr>
        <p:sp>
          <p:nvSpPr>
            <p:cNvPr id="156" name=""/>
            <p:cNvSpPr/>
            <p:nvPr/>
          </p:nvSpPr>
          <p:spPr>
            <a:xfrm flipH="1">
              <a:off x="1904760" y="579132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904760" y="50817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904760" y="43959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3809880"/>
            <a:ext cx="3810240" cy="2667240"/>
            <a:chOff x="380880" y="3809880"/>
            <a:chExt cx="3810240" cy="2667240"/>
          </a:xfrm>
        </p:grpSpPr>
        <p:sp>
          <p:nvSpPr>
            <p:cNvPr id="160" name=""/>
            <p:cNvSpPr/>
            <p:nvPr/>
          </p:nvSpPr>
          <p:spPr>
            <a:xfrm>
              <a:off x="380880" y="4038480"/>
              <a:ext cx="3810240" cy="243864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388620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5960" y="38098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urnkey Frame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" y="3429000"/>
            <a:ext cx="4114800" cy="3200400"/>
            <a:chOff x="228600" y="3429000"/>
            <a:chExt cx="4114800" cy="3200400"/>
          </a:xfrm>
        </p:grpSpPr>
        <p:sp>
          <p:nvSpPr>
            <p:cNvPr id="164" name=""/>
            <p:cNvSpPr/>
            <p:nvPr/>
          </p:nvSpPr>
          <p:spPr>
            <a:xfrm>
              <a:off x="228600" y="3657600"/>
              <a:ext cx="4114800" cy="297180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350532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5360" y="3429000"/>
              <a:ext cx="24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Apache / mod_per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228600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80988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533412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/>
          <p:nvPr/>
        </p:nvCxnSpPr>
        <p:spPr>
          <a:xfrm>
            <a:off x="7543440" y="3225960"/>
            <a:ext cx="1080" cy="584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>
            <a:off x="75434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>
            <a:off x="6476760" y="42667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>
            <a:off x="4978080" y="426672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>
            <a:off x="497808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>
            <a:off x="650160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rot="5400000">
            <a:off x="6018120" y="761040"/>
            <a:ext cx="2160" cy="3048840"/>
          </a:xfrm>
          <a:prstGeom prst="bentConnector3">
            <a:avLst>
              <a:gd name="adj1" fmla="val -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>
            <a:off x="43430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464796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449532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H="1">
            <a:off x="345420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 flipH="1">
            <a:off x="345420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194328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 flipH="1">
            <a:off x="3428280" y="3200040"/>
            <a:ext cx="6102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H="1">
            <a:off x="3428280" y="41144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 flipH="1">
            <a:off x="3454200" y="44193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>
            <a:off x="194328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2514600" y="2286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>
            <a:off x="8001000" y="2742840"/>
            <a:ext cx="2160" cy="3048840"/>
          </a:xfrm>
          <a:prstGeom prst="bentConnector3">
            <a:avLst>
              <a:gd name="adj1" fmla="val 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479160" y="4266720"/>
            <a:ext cx="6581880" cy="763920"/>
            <a:chOff x="479160" y="4266720"/>
            <a:chExt cx="6581880" cy="763920"/>
          </a:xfrm>
        </p:grpSpPr>
        <p:sp>
          <p:nvSpPr>
            <p:cNvPr id="198" name=""/>
            <p:cNvSpPr/>
            <p:nvPr/>
          </p:nvSpPr>
          <p:spPr>
            <a:xfrm>
              <a:off x="479160" y="466236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>
              <a:off x="4978080" y="426672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 flipH="1">
              <a:off x="6476760" y="42667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460440" y="2039760"/>
            <a:ext cx="7083000" cy="3281400"/>
            <a:chOff x="460440" y="2039760"/>
            <a:chExt cx="7083000" cy="3281400"/>
          </a:xfrm>
        </p:grpSpPr>
        <p:sp>
          <p:nvSpPr>
            <p:cNvPr id="202" name=""/>
            <p:cNvSpPr/>
            <p:nvPr/>
          </p:nvSpPr>
          <p:spPr>
            <a:xfrm>
              <a:off x="460440" y="4952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ultipath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"/>
            <p:cNvCxnSpPr/>
            <p:nvPr/>
          </p:nvCxnSpPr>
          <p:spPr>
            <a:xfrm>
              <a:off x="497808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 flipH="1">
              <a:off x="650160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/>
            <p:nvPr/>
          </p:nvCxnSpPr>
          <p:spPr>
            <a:xfrm rot="5400000">
              <a:off x="6018120" y="761040"/>
              <a:ext cx="2160" cy="3048840"/>
            </a:xfrm>
            <a:prstGeom prst="bentConnector3">
              <a:avLst>
                <a:gd name="adj1" fmla="val -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460440" y="2742840"/>
            <a:ext cx="7785360" cy="3048480"/>
            <a:chOff x="460440" y="2742840"/>
            <a:chExt cx="7785360" cy="3048480"/>
          </a:xfrm>
        </p:grpSpPr>
        <p:sp>
          <p:nvSpPr>
            <p:cNvPr id="207" name=""/>
            <p:cNvSpPr/>
            <p:nvPr/>
          </p:nvSpPr>
          <p:spPr>
            <a:xfrm>
              <a:off x="460440" y="527220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feedforward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"/>
            <p:cNvCxnSpPr/>
            <p:nvPr/>
          </p:nvCxnSpPr>
          <p:spPr>
            <a:xfrm>
              <a:off x="8001000" y="2742840"/>
              <a:ext cx="2160" cy="3048840"/>
            </a:xfrm>
            <a:prstGeom prst="bentConnector3">
              <a:avLst>
                <a:gd name="adj1" fmla="val 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460080" y="4749480"/>
            <a:ext cx="4188600" cy="1195560"/>
            <a:chOff x="460080" y="4749480"/>
            <a:chExt cx="4188600" cy="1195560"/>
          </a:xfrm>
        </p:grpSpPr>
        <p:sp>
          <p:nvSpPr>
            <p:cNvPr id="210" name=""/>
            <p:cNvSpPr/>
            <p:nvPr/>
          </p:nvSpPr>
          <p:spPr>
            <a:xfrm>
              <a:off x="460080" y="55767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"/>
            <p:cNvCxnSpPr/>
            <p:nvPr/>
          </p:nvCxnSpPr>
          <p:spPr>
            <a:xfrm>
              <a:off x="43430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>
              <a:off x="464796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/>
            <p:nvPr/>
          </p:nvCxnSpPr>
          <p:spPr>
            <a:xfrm>
              <a:off x="449532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460440" y="3200040"/>
            <a:ext cx="3578040" cy="3035520"/>
            <a:chOff x="460440" y="3200040"/>
            <a:chExt cx="3578040" cy="3035520"/>
          </a:xfrm>
        </p:grpSpPr>
        <p:sp>
          <p:nvSpPr>
            <p:cNvPr id="215" name=""/>
            <p:cNvSpPr/>
            <p:nvPr/>
          </p:nvSpPr>
          <p:spPr>
            <a:xfrm>
              <a:off x="460440" y="586728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rected gra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/>
            <p:nvPr/>
          </p:nvCxnSpPr>
          <p:spPr>
            <a:xfrm flipH="1">
              <a:off x="3428280" y="41144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/>
            <p:nvPr/>
          </p:nvCxnSpPr>
          <p:spPr>
            <a:xfrm flipH="1">
              <a:off x="3454200" y="44193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/>
            <p:nvPr/>
          </p:nvCxnSpPr>
          <p:spPr>
            <a:xfrm flipH="1">
              <a:off x="3428280" y="3200040"/>
              <a:ext cx="610200" cy="610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9" name=""/>
          <p:cNvGrpSpPr/>
          <p:nvPr/>
        </p:nvGrpSpPr>
        <p:grpSpPr>
          <a:xfrm>
            <a:off x="461520" y="2590560"/>
            <a:ext cx="3576960" cy="3964320"/>
            <a:chOff x="461520" y="2590560"/>
            <a:chExt cx="3576960" cy="3964320"/>
          </a:xfrm>
        </p:grpSpPr>
        <p:sp>
          <p:nvSpPr>
            <p:cNvPr id="220" name=""/>
            <p:cNvSpPr/>
            <p:nvPr/>
          </p:nvSpPr>
          <p:spPr>
            <a:xfrm>
              <a:off x="461520" y="6186600"/>
              <a:ext cx="29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nother non-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/>
            <p:nvPr/>
          </p:nvCxnSpPr>
          <p:spPr>
            <a:xfrm flipH="1">
              <a:off x="345420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/>
            <p:nvPr/>
          </p:nvCxnSpPr>
          <p:spPr>
            <a:xfrm flipH="1">
              <a:off x="345420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194328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/>
            <p:nvPr/>
          </p:nvCxnSpPr>
          <p:spPr>
            <a:xfrm>
              <a:off x="194328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60080" y="3225960"/>
            <a:ext cx="7084080" cy="2108160"/>
            <a:chOff x="460080" y="3225960"/>
            <a:chExt cx="7084080" cy="2108160"/>
          </a:xfrm>
        </p:grpSpPr>
        <p:sp>
          <p:nvSpPr>
            <p:cNvPr id="226" name=""/>
            <p:cNvSpPr/>
            <p:nvPr/>
          </p:nvSpPr>
          <p:spPr>
            <a:xfrm>
              <a:off x="460080" y="4357800"/>
              <a:ext cx="20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ference / inher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7543440" y="3225960"/>
              <a:ext cx="1080" cy="5846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/>
            <p:nvPr/>
          </p:nvCxnSpPr>
          <p:spPr>
            <a:xfrm>
              <a:off x="75434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not Ideal for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9880" y="2286000"/>
            <a:ext cx="1469880" cy="4443480"/>
            <a:chOff x="839880" y="2286000"/>
            <a:chExt cx="1469880" cy="4443480"/>
          </a:xfrm>
        </p:grpSpPr>
        <p:sp>
          <p:nvSpPr>
            <p:cNvPr id="231" name=""/>
            <p:cNvSpPr/>
            <p:nvPr/>
          </p:nvSpPr>
          <p:spPr>
            <a:xfrm>
              <a:off x="9889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89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889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/>
            <p:nvPr/>
          </p:nvCxnSpPr>
          <p:spPr>
            <a:xfrm>
              <a:off x="144576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/>
            <p:nvPr/>
          </p:nvCxnSpPr>
          <p:spPr>
            <a:xfrm>
              <a:off x="14457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839880" y="636120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 expor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2286000"/>
            <a:ext cx="1071000" cy="4406760"/>
            <a:chOff x="3124080" y="2286000"/>
            <a:chExt cx="1071000" cy="4406760"/>
          </a:xfrm>
        </p:grpSpPr>
        <p:sp>
          <p:nvSpPr>
            <p:cNvPr id="238" name=""/>
            <p:cNvSpPr/>
            <p:nvPr/>
          </p:nvSpPr>
          <p:spPr>
            <a:xfrm>
              <a:off x="312408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358092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cxnSp>
          <p:nvCxnSpPr>
            <p:cNvPr id="242" name=""/>
            <p:cNvCxnSpPr/>
            <p:nvPr/>
          </p:nvCxnSpPr>
          <p:spPr>
            <a:xfrm>
              <a:off x="3580920" y="472428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202200" y="63244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7800" y="2286000"/>
            <a:ext cx="951480" cy="4406760"/>
            <a:chOff x="5257800" y="2286000"/>
            <a:chExt cx="951480" cy="4406760"/>
          </a:xfrm>
        </p:grpSpPr>
        <p:sp>
          <p:nvSpPr>
            <p:cNvPr id="245" name=""/>
            <p:cNvSpPr/>
            <p:nvPr/>
          </p:nvSpPr>
          <p:spPr>
            <a:xfrm>
              <a:off x="525780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/>
            <p:nvPr/>
          </p:nvCxnSpPr>
          <p:spPr>
            <a:xfrm>
              <a:off x="571464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49" name=""/>
            <p:cNvCxnSpPr/>
            <p:nvPr/>
          </p:nvCxnSpPr>
          <p:spPr>
            <a:xfrm>
              <a:off x="571464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472428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62720" y="327672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43200" y="6324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317720" y="2286000"/>
            <a:ext cx="1105920" cy="4406760"/>
            <a:chOff x="7317720" y="2286000"/>
            <a:chExt cx="1105920" cy="4406760"/>
          </a:xfrm>
        </p:grpSpPr>
        <p:sp>
          <p:nvSpPr>
            <p:cNvPr id="254" name=""/>
            <p:cNvSpPr/>
            <p:nvPr/>
          </p:nvSpPr>
          <p:spPr>
            <a:xfrm>
              <a:off x="73915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915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"/>
            <p:cNvCxnSpPr/>
            <p:nvPr/>
          </p:nvCxnSpPr>
          <p:spPr>
            <a:xfrm>
              <a:off x="78483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7696080" y="4724280"/>
              <a:ext cx="30492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/>
            <p:nvPr/>
          </p:nvCxnSpPr>
          <p:spPr>
            <a:xfrm>
              <a:off x="784836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60" name=""/>
            <p:cNvSpPr/>
            <p:nvPr/>
          </p:nvSpPr>
          <p:spPr>
            <a:xfrm>
              <a:off x="7317720" y="63244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bo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’Connor (presenting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429000" y="1828800"/>
            <a:ext cx="2819520" cy="2514600"/>
            <a:chOff x="3429000" y="1828800"/>
            <a:chExt cx="2819520" cy="2514600"/>
          </a:xfrm>
        </p:grpSpPr>
        <p:sp>
          <p:nvSpPr>
            <p:cNvPr id="264" name=""/>
            <p:cNvSpPr/>
            <p:nvPr/>
          </p:nvSpPr>
          <p:spPr>
            <a:xfrm flipV="1">
              <a:off x="3962520" y="25909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248520" y="1828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18288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429000" y="1828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191120" y="2590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(vs SQL) Driven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243828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ostgre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8920" y="19051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440" y="22096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SQ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840" y="2057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2096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5909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800" y="304812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O/R Map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2004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840" y="3429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4480" y="3048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21337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5146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35053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31240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19051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044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1911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45720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44956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41148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48769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44197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XML / 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3400" y="40384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1240" y="480060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SVG / PNG /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2514600"/>
            <a:ext cx="38124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3004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5851440"/>
            <a:ext cx="6324480" cy="0"/>
          </a:xfrm>
          <a:prstGeom prst="line">
            <a:avLst/>
          </a:prstGeom>
          <a:ln w="1270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1160" y="6004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</a:rPr>
              <a:t>Increasing platform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33920" y="2590920"/>
            <a:ext cx="0" cy="1676160"/>
            <a:chOff x="3733920" y="2590920"/>
            <a:chExt cx="0" cy="1676160"/>
          </a:xfrm>
        </p:grpSpPr>
        <p:sp>
          <p:nvSpPr>
            <p:cNvPr id="301" name=""/>
            <p:cNvSpPr/>
            <p:nvPr/>
          </p:nvSpPr>
          <p:spPr>
            <a:xfrm>
              <a:off x="3733920" y="259092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33920" y="380988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8600" y="2514600"/>
            <a:ext cx="2209680" cy="1982160"/>
            <a:chOff x="228600" y="2514600"/>
            <a:chExt cx="2209680" cy="1982160"/>
          </a:xfrm>
        </p:grpSpPr>
        <p:sp>
          <p:nvSpPr>
            <p:cNvPr id="304" name=""/>
            <p:cNvSpPr/>
            <p:nvPr/>
          </p:nvSpPr>
          <p:spPr>
            <a:xfrm>
              <a:off x="228600" y="2514600"/>
              <a:ext cx="22096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0880" y="2590560"/>
              <a:ext cx="1752840" cy="1906200"/>
              <a:chOff x="380880" y="2590560"/>
              <a:chExt cx="1752840" cy="1906200"/>
            </a:xfrm>
          </p:grpSpPr>
          <p:pic>
            <p:nvPicPr>
              <p:cNvPr id="306" name="uml11" descr="Click to &#10;download this model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80880" y="2590560"/>
                <a:ext cx="1752840" cy="169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39880" y="41284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U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362320" y="2286000"/>
            <a:ext cx="609480" cy="2286000"/>
            <a:chOff x="2362320" y="2286000"/>
            <a:chExt cx="609480" cy="2286000"/>
          </a:xfrm>
        </p:grpSpPr>
        <p:sp>
          <p:nvSpPr>
            <p:cNvPr id="309" name=""/>
            <p:cNvSpPr/>
            <p:nvPr/>
          </p:nvSpPr>
          <p:spPr>
            <a:xfrm>
              <a:off x="2362320" y="236232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2320" y="3352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228600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3276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2320" y="4495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4600" y="4419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::Translator (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qlfairy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.sf.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0:37:18Z</dcterms:created>
  <dc:creator>jchen</dc:creator>
  <dc:description/>
  <dc:language>en-US</dc:language>
  <cp:lastModifiedBy>Scott Cain</cp:lastModifiedBy>
  <dcterms:modified xsi:type="dcterms:W3CDTF">2003-09-15T14:09:57Z</dcterms:modified>
  <cp:revision>44</cp:revision>
  <dc:subject/>
  <dc:title>Methods for Pipelining analysis of promoter regions</dc:title>
</cp:coreProperties>
</file>